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F7C9-36DC-43A7-9B2B-CCAEFC12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F87-B6D7-49F8-A22A-844EDEE9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77A-E0E7-44D4-B6E8-9C635914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9E70-DB3B-4B2B-9430-5F1AC6A8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-4173840"/>
            <a:ext cx="152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03D-C30C-4B90-8D58-B545EEE3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C3E1-EFF2-48FC-B4F7-0CAC4789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560" y="-4173840"/>
            <a:ext cx="152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19D-6DE0-4BC7-8E4C-45A02349F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A78D-E325-44FE-99A2-D380065F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-4173840"/>
            <a:ext cx="152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1C29-2238-4D66-8ED4-EFB54D93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599-B0C9-420A-A317-7FCB931E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46E8-81EF-4AAF-93D2-AB1DACDB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A6FC-5F10-4CBD-A635-3408A90E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52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bdce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1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2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3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4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5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6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2f2f2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2f2f2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8C1B9-2998-49AC-95A5-5514890A1D98}" type="slidenum">
              <a:rPr b="0" lang="en-US" sz="1200" spc="-1" strike="noStrike">
                <a:solidFill>
                  <a:srgbClr val="f2f2f2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990720" y="2362320"/>
            <a:ext cx="1026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amous Americans</a:t>
            </a:r>
            <a:endParaRPr b="0" lang="en-US" sz="6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2743200" y="33526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y Susan Herr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52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bdce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1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2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3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4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5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6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52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bdce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1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2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3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4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5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6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2"/>
          <a:stretch/>
        </p:blipFill>
        <p:spPr>
          <a:xfrm>
            <a:off x="433440" y="2090880"/>
            <a:ext cx="8272440" cy="1517400"/>
          </a:xfrm>
          <a:prstGeom prst="rect">
            <a:avLst/>
          </a:prstGeom>
          <a:ln w="0">
            <a:noFill/>
          </a:ln>
        </p:spPr>
      </p:pic>
      <p:pic>
        <p:nvPicPr>
          <p:cNvPr id="120" name="Subtitle 2" descr=""/>
          <p:cNvPicPr/>
          <p:nvPr/>
        </p:nvPicPr>
        <p:blipFill>
          <a:blip r:embed="rId3"/>
          <a:stretch/>
        </p:blipFill>
        <p:spPr>
          <a:xfrm>
            <a:off x="1365120" y="3749760"/>
            <a:ext cx="64137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pic>
        <p:nvPicPr>
          <p:cNvPr id="122" name="Content Placeholder 3" descr=""/>
          <p:cNvPicPr/>
          <p:nvPr/>
        </p:nvPicPr>
        <p:blipFill>
          <a:blip r:embed="rId2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42200" cy="466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81080" y="267012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first President of the United Stat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"/>
          <p:cNvSpPr/>
          <p:nvPr/>
        </p:nvSpPr>
        <p:spPr>
          <a:xfrm>
            <a:off x="1981080" y="312408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in the Revolutionary War fighting against Englan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"/>
          <p:cNvSpPr/>
          <p:nvPr/>
        </p:nvSpPr>
        <p:spPr>
          <a:xfrm>
            <a:off x="1739880" y="46116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Antonee,  Keyadja, and Alvi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pic>
        <p:nvPicPr>
          <p:cNvPr id="129" name="Content Placeholder 2" descr=""/>
          <p:cNvPicPr/>
          <p:nvPr/>
        </p:nvPicPr>
        <p:blipFill>
          <a:blip r:embed="rId2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438280" y="2438280"/>
            <a:ext cx="49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in a log cabin.        He was the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ident.          He ended the Civil War and slavery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724280"/>
            <a:ext cx="57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Angel, Kaitlynn, and Kaleb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pic>
        <p:nvPicPr>
          <p:cNvPr id="133" name="Content Placeholder 2" descr=""/>
          <p:cNvPicPr/>
          <p:nvPr/>
        </p:nvPicPr>
        <p:blipFill>
          <a:blip r:embed="rId2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752480" y="2514600"/>
            <a:ext cx="733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 ministe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led a march in Washington, D. C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gave a speech about his dream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d a dream that all people will be equal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Dyamin and Rodrigo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These famous Americans all contributed to the freedom and equality we have today.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pic>
        <p:nvPicPr>
          <p:cNvPr id="138" name="Content Placeholder 2" descr=""/>
          <p:cNvPicPr/>
          <p:nvPr/>
        </p:nvPicPr>
        <p:blipFill>
          <a:blip r:embed="rId2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590920" y="2514600"/>
            <a:ext cx="597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 good catcher and hitte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first African American in the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leagu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nted all athletes treated equally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Peyton, Mison, and Makayli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pic>
        <p:nvPicPr>
          <p:cNvPr id="141" name="Content Placeholder 2" descr=""/>
          <p:cNvPicPr/>
          <p:nvPr/>
        </p:nvPicPr>
        <p:blipFill>
          <a:blip r:embed="rId2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040920" y="2325600"/>
            <a:ext cx="5697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n Keller couldn’t see, hear, or talk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graduated from college and was a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speaker and write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helped other people with disabiliti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Anthony and Sydne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pic>
        <p:nvPicPr>
          <p:cNvPr id="144" name="Content Placeholder 2" descr=""/>
          <p:cNvPicPr/>
          <p:nvPr/>
        </p:nvPicPr>
        <p:blipFill>
          <a:blip r:embed="rId2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499840" y="2478240"/>
            <a:ext cx="62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nted women to have the right to vot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a suffragis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got the right to vote after she die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Mason, Leonard and Iderria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2:05:10Z</dcterms:created>
  <dc:creator>ECPS-USER</dc:creator>
  <dc:description/>
  <dc:language>en-US</dc:language>
  <cp:lastModifiedBy>Valued Gateway Client</cp:lastModifiedBy>
  <dcterms:modified xsi:type="dcterms:W3CDTF">2010-03-30T13:12:51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3831033</vt:lpwstr>
  </property>
</Properties>
</file>